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A77-86DF-4157-BBC9-AFA35CE8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6D2-BF95-499F-8171-91C502F8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32C-C9C8-4033-990C-64ED939B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BED-0A26-46DE-B3D2-2BDD8CC3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DBC-14C3-4932-BC39-3A40CAFB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39D-DF0F-4573-A4A1-47F3E5CF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7E7-A1C5-4939-848B-0FA9B147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E77-83CF-422D-9AE4-552437C7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D90-FF06-48C8-9D73-01095F8B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99E1-AED7-4931-AF81-C070CB1E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CE3-E979-42C8-ADEC-C489DF16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1F6-E4B7-435D-89D6-1A516C56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096D-485B-4E76-8CD2-CCDD3E3302F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am, itt vagyok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áltoztad meg szívemet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t tőled árad rám a kegyelem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am, beismerem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gy gyengeség van még bennem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van szabadító, féltő szeretet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egyekről, sík mezőkrő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Új dal száll fel az ég felé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És a mennyből kürtszó zendül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gyütt áldjuk szent nevé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17080" y="260280"/>
            <a:ext cx="482400" cy="432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öjj közel, tarts jelenlétedben,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Áraszd rám szent kenetedet,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hogy várlak, felkelek,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nt sasmadár,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s szárnyalok Veled,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Te Szellemed vezet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mennyhez közelebb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yisd meg értelmem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 új látást nekem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djam meg, hogy szeretsz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és bennem élsz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am, taníts, vezes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óságodra emlékeztes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ős jobbod legy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den nap velem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öjj közel, tarts jelenlétedben,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Áraszd rám szent kenetedet,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hogy várlak, felkelek,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nt sasmadár,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És szárnyalok Veled,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Te Szellemed vezet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mennyhez közelebb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75640" y="189000"/>
            <a:ext cx="339840" cy="3603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gjen hangos hálaének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ívünk töltse be öröm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jjongjunk az Ő győzelmének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ézusnak hódoljon a Fö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egyekről, sík mezőkrő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Új dal száll fel az ég felé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És a mennyből kürtszó zendül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gyütt áldjuk szent nevé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ragyog világosságo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gazságod, mint a Dél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ékességed, mint folyó ára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Úr, s Király vagy örökké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egyekről, sík mezőkrő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Új dal száll fel az ég felé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És a mennyből kürtszó zendül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gyütt áldjuk szent nevé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Halleluja!</a:t>
            </a:r>
            <a:br>
              <a:rPr sz="96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15:59:51Z</dcterms:created>
  <dc:creator>Baptista Gyülekezet</dc:creator>
  <dc:description/>
  <dc:language>en-US</dc:language>
  <cp:lastModifiedBy>Baptista Gyülekezet</cp:lastModifiedBy>
  <dcterms:modified xsi:type="dcterms:W3CDTF">2006-03-04T16:00:07Z</dcterms:modified>
  <cp:revision>1</cp:revision>
  <dc:subject/>
  <dc:title>Uram, itt vagyok, változtad meg szívemet, Mert tőled árad rám a kegyelem, Uram, beismerem, hogy gyengeség van még bennem, De van szabadító, féltő szereteted!</dc:title>
</cp:coreProperties>
</file>